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900-4A9A-45E5-959A-D96BF5F4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86A-C39D-4434-BBD2-CAFEA64D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5F0-3B04-48BE-BA95-6BED6150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880-3C0E-4874-A752-FC27D334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934F-4B82-4A36-83F1-26AAB876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BB0F-6638-49E2-B0CE-868AD52C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DB59-4E87-492B-BA3E-B5A7392C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D834-56E7-4400-BC02-52F5B524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2367-D5F1-4CF0-A68F-B5C6E57C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27C7-4E69-4144-8D15-896A8724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7C65-5A83-4C2E-AC05-1D0F179A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E7C-1034-4B80-B54B-38C17C67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EC7C-ED5B-4AAA-8DC7-3428FBE5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13E0-5397-4199-AF36-31D8F0ED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C1EC-83A1-4846-A7D3-3E7B36B5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042C-AB17-4108-92A0-80DF05D0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F698-C25F-4C65-9CF1-8A84FB44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2AA-2AF9-470B-AE87-8FB42853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CE1-F514-4E48-9399-3CDD4C42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309-E0F3-466B-B454-4DD57F7D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7C0-3341-4517-A9B1-272D73A6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6F4-6649-4CAE-8052-AC4F0A84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3D5-646B-47DB-AC90-17BA209B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CBF-1BB0-4FE8-A549-7EB204F3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9366-E273-470E-87EB-C62F23E3A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AF8D-3A17-4F11-9796-1C1C87805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inchill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ina Du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1B31-FE92-4248-9977-AF698B246DD2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dience will be informed about the Chinchilla; in example they will be informed about their habitat and what they eat. They will be informed of how they act and what you should watch out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hey 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’re habi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they l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they 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’re common health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up flyers so that people will see that my movie can be seen. Advertise on TV and on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it informs people about pets that aren’t as popular as dogs and cats, but they make good pe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57:44Z</dcterms:created>
  <dc:creator/>
  <dc:description/>
  <dc:language>en-US</dc:language>
  <cp:lastModifiedBy>City School</cp:lastModifiedBy>
  <dcterms:modified xsi:type="dcterms:W3CDTF">2013-02-20T19:16:14Z</dcterms:modified>
  <cp:revision>39</cp:revision>
  <dc:subject/>
  <dc:title>The Pitch-Then-Plan Business Planning Template</dc:title>
</cp:coreProperties>
</file>